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32D-6B09-4B75-A53F-5153B321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6D4-7DEA-4EB6-9B59-0F436C19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09A9-D91C-4B59-8D05-CC1BDD0A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ABC-916D-471A-B27F-7B3021AB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A135-9368-47E9-AE26-EE9A6DF1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CDDD-A0AD-42B2-9D39-DB27A85E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1DB4-7071-49B1-B86C-53410DF8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7CDA-09C4-4E2D-A03A-3D285D66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E11A-928F-4039-80C1-43F6CE79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ED36-6B71-4978-BA07-E2103BC8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6B0E-ABC6-4268-8A9C-67C44B08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79A-88F0-4B3E-8020-D3D25118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23D6-6FB2-4E10-906A-19D3409D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0728-8D87-45E6-9E9C-F718C28E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68B6-A7AE-47D9-B8B4-D3CF2F6B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C038-0E93-44B6-85D5-6C759E4A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5E9C-7861-435F-97FB-7ADC7A05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F9624C-7C8A-461F-A15B-C5D8D4F9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B0863-BD4A-4CF6-AAA3-8D4CDEBA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8E70F-E890-4DF2-9360-AB965147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8F6F9-4FA6-4F5F-BCB5-F83CF4E0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DF1D6-BB1D-40FA-BE38-8DD2FF6E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771F-72DC-472C-9A6D-E1F512AC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778C6-1FAA-4696-A32B-EC28F923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DCE94-0956-46C3-8709-3B34BF96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B2341-B908-4C85-BBCE-7BF68A84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36769-FA4B-415B-8F9B-E265CA6D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52EE2-34EA-4120-B772-B49948C8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26BE6-DA3D-46F8-92C6-A57AED3A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25F28-11BD-481C-A64A-20E2E2CD4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42483-FFDA-4342-AA07-DFBD46A7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DD54-2BF6-4612-89C9-5CD92574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E872C-FB70-43B2-9B8E-7EEDDE57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FDC-FBA6-45BE-AB68-F5ACAEB2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8FA06-6CE6-45B7-8208-EDDFB5C4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C6C1-756B-4824-B149-DE28E49C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BF58D-217F-4F4B-BB0D-22732E76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C815-95ED-4DDC-B4E8-0F123D10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E4C75-0CD4-4C3C-B47B-B867A92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A0AF5-494C-4E37-9B98-05B62E5E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0BD6B-B3EB-4C5B-B0FD-050E01B2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BA59A-58C1-4E57-ADD2-045DD7BD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5D3E-66AA-4546-B66F-75318799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52E-244F-4DF3-B1F0-5C858257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803-F0A0-436F-98F4-7299FF44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66A-A501-407A-842C-77A2D7ED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B6D-8426-4832-A6AE-1325E97E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FA6C-25C2-4569-B5CA-488F6EA3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E058-80EC-416F-8677-CC9057BADFD6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F5B0-6A7A-40D0-89CC-12BEC90AA5D6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4029-76C8-402A-93CE-C607BB927161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2FC4-E279-45D2-AD7F-E6143C3AD309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3920-6F47-46CD-8E7C-D09EE65B010D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4765-32E1-4B10-A15A-1CFCE60E5CB1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F983-1E0E-4198-B8DC-4BC0E7B2D34A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7209-5124-44C3-AD73-CCA89AB899E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alligramme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Comme quelques poèmes de Guillaume Apollinaire</a:t>
            </a: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a Cravate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2895480" y="2314440"/>
            <a:ext cx="2403720" cy="3654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2"/>
          <a:stretch/>
        </p:blipFill>
        <p:spPr>
          <a:xfrm>
            <a:off x="5692680" y="819000"/>
            <a:ext cx="1670040" cy="21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94c600"/>
                </a:solidFill>
                <a:uFillTx/>
                <a:latin typeface="Century Gothic"/>
              </a:rPr>
              <a:t>La Cravate </a:t>
            </a:r>
            <a:r>
              <a:rPr b="0" lang="en-US" sz="2200" spc="-1" strike="noStrike">
                <a:solidFill>
                  <a:srgbClr val="94c600"/>
                </a:solidFill>
                <a:latin typeface="Century Gothic"/>
              </a:rPr>
              <a:t>est le poème par Apollinaire que nous avons étudié.  Voilà un autre calligramme avec un dessin.</a:t>
            </a: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Madelein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3" name="Picture 6" descr=""/>
          <p:cNvPicPr/>
          <p:nvPr/>
        </p:nvPicPr>
        <p:blipFill>
          <a:blip r:embed="rId1"/>
          <a:stretch/>
        </p:blipFill>
        <p:spPr>
          <a:xfrm>
            <a:off x="3195720" y="2324160"/>
            <a:ext cx="3537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65080" y="3687480"/>
            <a:ext cx="2479680" cy="16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e miroi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Content Placeholder 4" descr=""/>
          <p:cNvPicPr/>
          <p:nvPr/>
        </p:nvPicPr>
        <p:blipFill>
          <a:blip r:embed="rId1"/>
          <a:srcRect l="0" t="3052" r="2745" b="4900"/>
          <a:stretch/>
        </p:blipFill>
        <p:spPr>
          <a:xfrm>
            <a:off x="3459240" y="1027080"/>
            <a:ext cx="4608360" cy="49258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865080" y="888840"/>
            <a:ext cx="20890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98560" y="1026720"/>
            <a:ext cx="3568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Les œuvres par des élèves: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8" name="Content Placeholder 5" descr="cœur brisé.pdf"/>
          <p:cNvPicPr/>
          <p:nvPr/>
        </p:nvPicPr>
        <p:blipFill>
          <a:blip r:embed="rId1"/>
          <a:srcRect l="2947" t="28643" r="0" b="29997"/>
          <a:stretch/>
        </p:blipFill>
        <p:spPr>
          <a:xfrm>
            <a:off x="2157480" y="2662200"/>
            <a:ext cx="62960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e bandeau d’une élèv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0" name="Content Placeholder 3" descr="mon bandeau.pdf"/>
          <p:cNvPicPr/>
          <p:nvPr/>
        </p:nvPicPr>
        <p:blipFill>
          <a:blip r:embed="rId1"/>
          <a:srcRect l="2937" t="24522" r="3571" b="31269"/>
          <a:stretch/>
        </p:blipFill>
        <p:spPr>
          <a:xfrm>
            <a:off x="1243080" y="2170080"/>
            <a:ext cx="63356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Et maintenant – votre classe!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alligrammes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réez vos poèmes aujourd’hui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artagez les votres demai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es vêtemen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es lunettes de solei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n maillot de spor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n comple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n foulard                      etc. etc. etc.!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588240" indent="-250920" algn="r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t le votre?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20:24:47Z</dcterms:created>
  <dc:creator>John Chapman</dc:creator>
  <dc:description/>
  <dc:language>en-US</dc:language>
  <cp:lastModifiedBy>edill</cp:lastModifiedBy>
  <dcterms:modified xsi:type="dcterms:W3CDTF">2013-06-14T19:57:35Z</dcterms:modified>
  <cp:revision>8</cp:revision>
  <dc:subject/>
  <dc:title>Calligrammes</dc:title>
</cp:coreProperties>
</file>